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ct" ContentType="image/x-pict"/>
  <Override PartName="/ppt/media/image6.png" ContentType="image/png"/>
  <Override PartName="/ppt/media/image11.png" ContentType="image/png"/>
  <Override PartName="/ppt/media/image4.jpeg" ContentType="image/jpeg"/>
  <Override PartName="/ppt/media/image9.pct" ContentType="image/x-pict"/>
  <Override PartName="/ppt/media/image7.png" ContentType="image/png"/>
  <Override PartName="/ppt/media/image8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4464-330B-479E-88F7-CE798654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B0DD-80F1-474C-9E42-9B196E9C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3157-480A-4CA7-AAFA-4AC56288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6B25-B2E9-44FB-9462-7337435A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ED7-21BF-4516-8D04-FCE2AFEF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B184-141E-4EA4-972F-08B1D4C4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DB30-8F3B-4C17-BD01-6EDC9F7C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22D-9F59-4B53-B326-E3CA8999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15A-AE4A-4E00-85BE-EAA114ED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5380-622C-4491-9F62-DC6F3BF9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DB7-7478-4AC3-BE63-06EA81A5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2FC5-134B-4CA2-8141-2162D4E9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6101-20CE-4C54-99F1-29F8BEB8E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85800"/>
            <a:ext cx="822960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cc"/>
                </a:solidFill>
                <a:latin typeface="Times New Roman"/>
              </a:rPr>
              <a:t>Chapter 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i="1" lang="en-US" sz="9600" spc="-1" strike="noStrike">
                <a:solidFill>
                  <a:srgbClr val="ff0000"/>
                </a:solidFill>
                <a:latin typeface="Times New Roman"/>
              </a:rPr>
              <a:t>Building Health Skill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43434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9880" y="1295280"/>
            <a:ext cx="48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07360" y="4648320"/>
            <a:ext cx="48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45240" y="1752480"/>
            <a:ext cx="48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7960" y="5486400"/>
            <a:ext cx="48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7960" y="304920"/>
            <a:ext cx="48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9240" y="228600"/>
            <a:ext cx="48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280" y="2133720"/>
          <a:ext cx="2262240" cy="226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133720"/>
                    <a:ext cx="226224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3049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Conflict Resolution Skil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4382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Process of ending a conflict through cooperation and problem solving.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191120"/>
            <a:ext cx="83818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Key: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 respecting the other person’s rights as well as your 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teps to follow when dealing with a conflic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1447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Take time to calm down and think through the sit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8954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When discussing the conflict, speak calmly and listen attentively, asking questions when appropri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6483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Use a polite tone and try to brainstorm solutions where no one loses respect.  Work to resolve the conflict peaceful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280" y="22860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Self-Management Skil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447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-Practicing Healthful Behavi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438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-Managing St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5053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Stress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-the body’s and mind’s reactions to everyday deman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510552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tress management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-ways to deal with or overcome the negative effects of str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228600"/>
            <a:ext cx="9144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Management Skill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-rechanneling your ener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-relax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-laug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-listening to soothing mus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-engaging in physical activ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04920" y="1523880"/>
          <a:ext cx="2124000" cy="265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21240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hecker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28600"/>
            <a:ext cx="853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Analyzing Influenc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14479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ternal influences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-your knowledge, values, likes,dislikes, and desi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200400"/>
            <a:ext cx="838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xternal influences</a:t>
            </a: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-family, friends, peer, environment, culture, laws, and med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92160" y="-32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8534160" cy="70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Accessing Reliable Health Inform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-parents, guardians, and other trusted ad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-library resources-encyclopedia, nonfiction boo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</a:rPr>
              <a:t>reliable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 Internet s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-newspaper and magazine articles by health professio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3733920"/>
            <a:ext cx="1317600" cy="1265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5327640" cy="64263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380880"/>
            <a:ext cx="845820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0000"/>
                </a:solidFill>
                <a:latin typeface="Times New Roman"/>
              </a:rPr>
              <a:t>Lesson 2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cc"/>
                </a:solidFill>
                <a:latin typeface="Times New Roman"/>
              </a:rPr>
              <a:t>Making </a:t>
            </a:r>
            <a:r>
              <a:rPr b="1" i="1" lang="en-US" sz="7200" spc="-1" strike="noStrike" u="sng">
                <a:solidFill>
                  <a:srgbClr val="ff0000"/>
                </a:solidFill>
                <a:uFillTx/>
                <a:latin typeface="Times New Roman"/>
              </a:rPr>
              <a:t>Responsible</a:t>
            </a:r>
            <a:r>
              <a:rPr b="1" i="1" lang="en-US" sz="7200" spc="-1" strike="noStrike">
                <a:solidFill>
                  <a:srgbClr val="0000cc"/>
                </a:solidFill>
                <a:latin typeface="Times New Roman"/>
              </a:rPr>
              <a:t> Decisions and Setting Goa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30492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cc"/>
                </a:solidFill>
                <a:latin typeface="Times New Roman"/>
              </a:rPr>
              <a:t>Making decisions about </a:t>
            </a: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MAJOR</a:t>
            </a:r>
            <a:r>
              <a:rPr b="0" i="1" lang="en-US" sz="6000" spc="-1" strike="noStrike">
                <a:solidFill>
                  <a:srgbClr val="0000cc"/>
                </a:solidFill>
                <a:latin typeface="Times New Roman"/>
              </a:rPr>
              <a:t> life issues must be done carefully and deliberately.  Approach with </a:t>
            </a: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CAUTION</a:t>
            </a:r>
            <a:r>
              <a:rPr b="0" i="1" lang="en-US" sz="6000" spc="-1" strike="noStrike">
                <a:solidFill>
                  <a:srgbClr val="0000cc"/>
                </a:solidFill>
                <a:latin typeface="Times New Roman"/>
              </a:rPr>
              <a:t> and </a:t>
            </a: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“look in all directions.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380880"/>
            <a:ext cx="8382240" cy="62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Decision-Making Model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cc"/>
                </a:solidFill>
                <a:latin typeface="Times New Roman"/>
              </a:rPr>
              <a:t>Designed to help you make decisions that will protect your rights, health, and self-respect while respecting the same for ot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04920"/>
            <a:ext cx="8458200" cy="15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esson 1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uilding Health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81080"/>
            <a:ext cx="8458200" cy="2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esson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aking Responsible Decisions and Setting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4495680"/>
            <a:ext cx="8305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Lesson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Building Charac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22860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08240" y="478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522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00"/>
              </a:buClr>
              <a:buFont typeface="PressWriter Symbol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Step 1:  State the Situation-what         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    decision needs to be ma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1447920"/>
            <a:ext cx="88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00"/>
              </a:buClr>
              <a:buFont typeface="PressWriter Symbol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Step 2:  List the possible cho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2209680"/>
            <a:ext cx="8839440" cy="27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00"/>
              </a:buClr>
              <a:buFont typeface="PressWriter Symbol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Step 3:  Weigh the possible o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ff0000"/>
              </a:buClr>
              <a:buFont typeface="PressWriter Symbol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895480"/>
            <a:ext cx="899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00"/>
              </a:buClr>
              <a:buFont typeface="PressWriter Symbol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Step 4:  Consider your val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73392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00"/>
              </a:buClr>
              <a:buFont typeface="PressWriter Symbol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Step 5:  Make a decision and take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                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080" y="478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5243400"/>
            <a:ext cx="845820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00"/>
              </a:buClr>
              <a:buFont typeface="PressWriter Symbol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Step 6:  Evaluate your dec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676520" y="533520"/>
          <a:ext cx="5632200" cy="56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533520"/>
                    <a:ext cx="5632200" cy="56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04920" y="152280"/>
            <a:ext cx="8610480" cy="76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Times New Roman"/>
              </a:rPr>
              <a:t>Setting Goal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Times New Roman"/>
              </a:rPr>
              <a:t>Goal-something that you aim for that takes planning and work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Long term goals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long periods-sometimes months or even years to achie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830556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Short-term goals-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achieved fairly easily and in a short period of ti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ction plan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multi-step strategy for identifying and achieving goal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228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cc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elect a goal to work 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0666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cc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ist what you will do to reach the go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05740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cc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dentify sources of help and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895480"/>
            <a:ext cx="83055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cc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et a reasonable time frame for reaching your go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114800"/>
            <a:ext cx="7848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cc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stablish checkpoints to evaluate your 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02080"/>
            <a:ext cx="7772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cc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ward yourself after reaching your go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89154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Times New Roman"/>
              </a:rPr>
              <a:t>Lesson 3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i="1" lang="en-US" sz="7200" spc="-1" strike="noStrike">
                <a:solidFill>
                  <a:srgbClr val="0000cc"/>
                </a:solidFill>
                <a:latin typeface="Times New Roman"/>
              </a:rPr>
              <a:t>Building Characte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342900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Character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those qualities that describe how a person thinks, feels, and behav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30492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What is Good Character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295280"/>
            <a:ext cx="83822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A person with good character demonstrates core ethical values, such as 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responsibility, honesty, integrity, and respect. These values are held in high regard across all cultures and age group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304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Character and Healt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371600"/>
            <a:ext cx="815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Because your character plays a huge role in your decisions, actions, and behavior, it impacts all aspects of your heal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30492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Traits of Good Charac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2952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Trustworthi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198108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Respec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274320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Responsibi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429000"/>
            <a:ext cx="7086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Fairn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426708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Ca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502920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Citizen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8088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Developing Your Charac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4479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Stand up for your belief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2438280"/>
            <a:ext cx="7162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Learn from people who demonstrate good character trai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49528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Join volunteer groups in your school or commun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228600"/>
            <a:ext cx="83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Positive Role Mode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52388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Someone whose success or behavior serves as an example for oth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216000"/>
            <a:ext cx="8458200" cy="66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Times New Roman"/>
              </a:rPr>
              <a:t>Lesson 1:</a:t>
            </a:r>
            <a:r>
              <a:rPr b="0" lang="en-US" sz="6000" spc="-1" strike="noStrike">
                <a:solidFill>
                  <a:srgbClr val="0000cc"/>
                </a:solidFill>
                <a:latin typeface="Times New Roman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Times New Roman"/>
              </a:rPr>
              <a:t>Building Health Skil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Health Skills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specific tools and strategies that help you maintain, protect, and improve all aspects of your heal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Takes </a:t>
            </a: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time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nd     </a:t>
            </a:r>
            <a:r>
              <a:rPr b="1" lang="en-US" sz="6000" spc="-1" strike="noStrike">
                <a:solidFill>
                  <a:srgbClr val="0000cc"/>
                </a:solidFill>
                <a:latin typeface="Times New Roman"/>
              </a:rPr>
              <a:t>practi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562720" y="4495680"/>
          <a:ext cx="1915920" cy="218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4495680"/>
                    <a:ext cx="191592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2280" y="38088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Demonstrating Good Charac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5146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Make a difference at h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65760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Make a difference at schoo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7242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Make a difference in your commun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Interpersonal Commun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75248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The exchange of thoughts, feelings, and beliefs between two or more peo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14600" y="3886200"/>
            <a:ext cx="4114800" cy="2674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304920"/>
            <a:ext cx="8534160" cy="64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Interpersonal Skill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clearly say what you me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pay attention to how you say someth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be a good listen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be aware of facial expressions and gestu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304920"/>
            <a:ext cx="86868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cc"/>
                </a:solidFill>
                <a:latin typeface="Times New Roman"/>
              </a:rPr>
              <a:t>Refusal Skills-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techniques that can help you refuse when you are urged to take part in unsafe or unhealthful behaviors.  Includ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88620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Times New Roman"/>
              </a:rPr>
              <a:t>1.  Say 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“NO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638680" y="4724280"/>
            <a:ext cx="3175200" cy="1765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609480"/>
            <a:ext cx="8458200" cy="37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Times New Roman"/>
              </a:rPr>
              <a:t>2.  Explain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why</a:t>
            </a:r>
            <a:r>
              <a:rPr b="0" lang="en-US" sz="7200" spc="-1" strike="noStrike">
                <a:solidFill>
                  <a:srgbClr val="0000cc"/>
                </a:solidFill>
                <a:latin typeface="Times New Roman"/>
              </a:rPr>
              <a:t> you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7200" spc="-1" strike="noStrike">
                <a:solidFill>
                  <a:srgbClr val="0000cc"/>
                </a:solidFill>
                <a:latin typeface="Times New Roman"/>
              </a:rPr>
              <a:t>are refusing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42900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Times New Roman"/>
              </a:rPr>
              <a:t>3. Suggest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alternatives</a:t>
            </a:r>
            <a:r>
              <a:rPr b="0" lang="en-US" sz="7200" spc="-1" strike="noStrike">
                <a:solidFill>
                  <a:srgbClr val="0000cc"/>
                </a:solidFill>
                <a:latin typeface="Times New Roman"/>
              </a:rPr>
              <a:t> to the proposed activit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" y="4724280"/>
            <a:ext cx="2921040" cy="191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8600"/>
            <a:ext cx="8839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Times New Roman"/>
              </a:rPr>
              <a:t>4.  Back up your words using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body language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505320"/>
            <a:ext cx="87631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cc"/>
                </a:solidFill>
                <a:latin typeface="Times New Roman"/>
              </a:rPr>
              <a:t>5. 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Leave</a:t>
            </a:r>
            <a:r>
              <a:rPr b="0" lang="en-US" sz="7200" spc="-1" strike="noStrike">
                <a:solidFill>
                  <a:srgbClr val="0000cc"/>
                </a:solidFill>
                <a:latin typeface="Times New Roman"/>
              </a:rPr>
              <a:t> if necessary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867280" y="281952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3049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28600"/>
            <a:ext cx="8534520" cy="65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Social Health Skill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-effective communicator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Being able to express your knowledge, beliefs, and ideas in many ways.  Includes the ability to say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6T01:24:52Z</dcterms:created>
  <dc:creator>Beth M. Little</dc:creator>
  <dc:description/>
  <dc:language>en-US</dc:language>
  <cp:lastModifiedBy>Chatham County Schools</cp:lastModifiedBy>
  <dcterms:modified xsi:type="dcterms:W3CDTF">2006-08-30T17:22:22Z</dcterms:modified>
  <cp:revision>63</cp:revision>
  <dc:subject/>
  <dc:title>No Slide Title</dc:title>
</cp:coreProperties>
</file>